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27D-38E4-4D65-A606-E585DE2D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DB9-39E5-48F6-AE8E-6B63D1AC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0EB-E058-496F-AF8D-16A79FE3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ADA-2ED2-4F81-B2E6-8F85F686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D72B-6E0D-4B89-BB93-2548C190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B0A3-08B7-436D-B59D-C1D0D2FE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9CCE-5B4A-4B7F-A7FA-52F2FF40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3B8A-BA00-454B-BA56-50325705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4567-36E4-4008-954E-D76B6DD9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E215-1865-49CE-A904-50953224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82BA-E55A-402C-BFD2-D79CECB5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EE9-7843-4C4A-82B6-55F9751A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B2AD-EFFD-40CB-ADCB-86B81D3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0993-DBA5-4DBD-B166-3FBC58B6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8935-FF6A-4B3C-97DB-926488B4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8EBF-5CE5-41A1-AA23-8015FF2C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4EB3-36B7-44D5-ABEA-4897002B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0FA-811D-4897-9D2C-DEB53EA6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137-31B3-43F8-83AE-718FF6FF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59F-16E4-4174-9D10-63AFEBBB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AF2-5DE6-41D1-A106-942C1555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A71-3986-494D-8CEA-C065E079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E27-80E3-4060-9937-A7AF20C7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D36-B4AA-4085-8D67-8F63655C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A8D2-B36F-42D7-8AB9-A528047E5FA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6D7E-8EC1-4205-8C63-585467CE32FF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51920" y="1767960"/>
            <a:ext cx="899172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dbbd71"/>
                </a:solidFill>
                <a:latin typeface="Arial"/>
              </a:rPr>
              <a:t>ELEKTRODIJAGNOSTIK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Nedostaci 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 govori o stepenu promene i daljem razvoju bolesti u vidu mernih vred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 vodi računa o trajanju nadraž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ol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ači inteziteti “probijaju” u okolne mišić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Hronaksimetri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ko je nalaz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e ED negativan, a ne odgovar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j slic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spituje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vremensk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arakteristik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Hronaksija j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najk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vrem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otrebno 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mpuls G intenziteta ravnom dvostrukom pragu izaz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ov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minimaln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okom vidljiv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ontrakcij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Prema Bourguignon-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hronaksija može bi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ratka: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06 - 0,14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srednj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16 - 0,34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ug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40 - 0,70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novijoj literaturi do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1 m</a:t>
            </a:r>
            <a:r>
              <a:rPr b="1" lang="sr-Latn-CS" sz="3200" spc="-1" strike="noStrike">
                <a:solidFill>
                  <a:srgbClr val="a50021"/>
                </a:solidFill>
                <a:latin typeface="Swiss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Hronaksija nerv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u normalnim uslovima je ista - 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izohroniza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Hronaksimetri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Hronaksija nerv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kod zdravog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je ista - 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izohroniza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d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nerva u prvoj fazi postoji sk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 hronaksije, a zatim njeno prod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(i preko 100 ms). Nervna vlakna su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ija od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, pa  elektr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 impulsi najpre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nerve, pa tek onda sam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Ako je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zgubio svoju inervaciju (povreda, poli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..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) hronaksij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biti mnogo d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jer se ustvari od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je hronaksija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 vlak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rednosti hronaksimetri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KRIVA INTENZITET - VREM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Horwig i Weiss: zavisnost intenziteta 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G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 potrebne za izazivanje minimalne okom vidljive kontrakcije i vremena proticanj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Kod 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oveka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 se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 vr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i  impulsima trajanja: 1000, 500, 100, 50, 10, 5, 1, 0,5, 0,1 i 0,05 ms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Koeficijent akomodabilitet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tanja 1"/>
          <p:cNvPicPr/>
          <p:nvPr/>
        </p:nvPicPr>
        <p:blipFill>
          <a:blip r:embed="rId1"/>
          <a:stretch/>
        </p:blipFill>
        <p:spPr>
          <a:xfrm>
            <a:off x="4038480" y="1994040"/>
            <a:ext cx="497376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620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Dutch"/>
              </a:rPr>
              <a:t>Denervaciona kriva intenzitet - vrem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Dutch"/>
              </a:rPr>
              <a:t>Kriva intenzitet - vreme u fazi regeneracije nerv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553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bbd71"/>
                </a:solidFill>
                <a:latin typeface="Swiss"/>
              </a:rPr>
              <a:t>Elektrodegenerativna reakcija (EDR)</a:t>
            </a:r>
            <a:endParaRPr b="0" lang="en-US" sz="3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1849. D. de Boulogne ukazao na mog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sti razlikovanja centralnih od perifernih oduzetosti od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im 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1868.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rb j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opisao elektrodegenerativne reak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laz ispoljene EDR ukazuje da je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 lokalizovano na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PMN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, na samom nervnom stablu, na njegovim korenovima ili motorni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ijama prednjih rogova. Prognoza je l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ja kod lezij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ija prednjih rogova ili korenova, a bolja kod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na samom nervnom stablu. EDR se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ne javlj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od lokalizacija na CMN, korteksu, kortikospinalnim putevima ili samim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Swiss"/>
              </a:rPr>
              <a:t>S</a:t>
            </a:r>
            <a:r>
              <a:rPr b="0" lang="en-US" sz="4400" spc="-1" strike="noStrike">
                <a:solidFill>
                  <a:srgbClr val="dbbd71"/>
                </a:solidFill>
                <a:latin typeface="Swiss"/>
              </a:rPr>
              <a:t>tadijum</a:t>
            </a:r>
            <a:r>
              <a:rPr b="0" lang="sr-Latn-CS" sz="4400" spc="-1" strike="noStrike">
                <a:solidFill>
                  <a:srgbClr val="dbbd71"/>
                </a:solidFill>
                <a:latin typeface="Swiss"/>
              </a:rPr>
              <a:t>i</a:t>
            </a:r>
            <a:r>
              <a:rPr b="0" lang="en-US" sz="4400" spc="-1" strike="noStrike">
                <a:solidFill>
                  <a:srgbClr val="dbbd71"/>
                </a:solidFill>
                <a:latin typeface="Swiss"/>
              </a:rPr>
              <a:t> EDR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aki oblik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b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eli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c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otpu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d)   apsolut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sl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ju jasnog nalaza nisu neophodna druga ispitivanja. Kada se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m ED dobije negativan nalaz, uz nepodudarnost s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im stanjem, umesno je odrediti i hronaksiju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461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299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Swiss"/>
              </a:rPr>
              <a:t>ELEKTRODIJAGNOSTIKA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Klasi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na elektrodijagnosti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Hronaksimetr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Kriva intenzitet-vre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Detekciona EM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Stimulaciona EM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SSE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2280" y="1981080"/>
          <a:ext cx="7386840" cy="3811680"/>
        </p:xfrm>
        <a:graphic>
          <a:graphicData uri="http://schemas.openxmlformats.org/drawingml/2006/table">
            <a:tbl>
              <a:tblPr/>
              <a:tblGrid>
                <a:gridCol w="1833840"/>
                <a:gridCol w="1831680"/>
                <a:gridCol w="1851120"/>
                <a:gridCol w="1870200"/>
              </a:tblGrid>
              <a:tr h="95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4 NEDELJ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2443320"/>
          <a:ext cx="7772400" cy="370332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46160"/>
                <a:gridCol w="1968480"/>
              </a:tblGrid>
              <a:tr h="97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6-8 NEDEL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2260440"/>
          <a:ext cx="8229600" cy="3870360"/>
        </p:xfrm>
        <a:graphic>
          <a:graphicData uri="http://schemas.openxmlformats.org/drawingml/2006/table">
            <a:tbl>
              <a:tblPr/>
              <a:tblGrid>
                <a:gridCol w="2043000"/>
                <a:gridCol w="2041560"/>
                <a:gridCol w="2060640"/>
                <a:gridCol w="2084400"/>
              </a:tblGrid>
              <a:tr h="84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8-12 NEDEL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Komplet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2505240"/>
          <a:ext cx="6977160" cy="3611520"/>
        </p:xfrm>
        <a:graphic>
          <a:graphicData uri="http://schemas.openxmlformats.org/drawingml/2006/table">
            <a:tbl>
              <a:tblPr/>
              <a:tblGrid>
                <a:gridCol w="1731960"/>
                <a:gridCol w="1730160"/>
                <a:gridCol w="1748160"/>
                <a:gridCol w="1766880"/>
              </a:tblGrid>
              <a:tr h="892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 ILI DELIMIČNI OPORAVAK ZA 5 MES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Komplet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8360" y="2435400"/>
          <a:ext cx="6977160" cy="3681360"/>
        </p:xfrm>
        <a:graphic>
          <a:graphicData uri="http://schemas.openxmlformats.org/drawingml/2006/table">
            <a:tbl>
              <a:tblPr/>
              <a:tblGrid>
                <a:gridCol w="1731960"/>
                <a:gridCol w="1730160"/>
                <a:gridCol w="1748160"/>
                <a:gridCol w="1766880"/>
              </a:tblGrid>
              <a:tr h="96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ELIMI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Č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I OPORAVAK ZA VIŠE OD 6 MES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Apsolut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5800" y="2514600"/>
          <a:ext cx="7772400" cy="363204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46160"/>
                <a:gridCol w="1968480"/>
              </a:tblGrid>
              <a:tr h="89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POTPUNI OPORAVAK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do ocene 2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ZA VIŠE 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 6 MES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Ciljevi elektrodijagnostik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ostavlja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ili potvr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iva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dijagno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tvr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iva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stadijuma oboljenja ili povre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ra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i kontrol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efekata le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d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ono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prognosti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kih zaklju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a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Klasi</a:t>
            </a:r>
            <a:r>
              <a:rPr b="1" lang="sr-Latn-CS" sz="4400" spc="-1" strike="noStrike">
                <a:solidFill>
                  <a:srgbClr val="dbbd71"/>
                </a:solidFill>
                <a:latin typeface="Swiss"/>
              </a:rPr>
              <a:t>č</a:t>
            </a: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na elektrodijagnost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ektrodijagnostika (ED), u 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m smislu 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, podrazumeva ispitivanja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osti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c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jednosmernom 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mpulsno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i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izme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m niskofrekventnom strujom. Tome sl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 tzv.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ED i hronaksimetri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nje se vr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 u motornim t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am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ca ("indirektno")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i mišić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("direktno"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malom ("aktivnom"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ektrodom, dok je v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("inaktivna") elektroda po pravilu fiksirana proksimalno, ili u predelu medijalne lin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rezultat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s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obel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va intenzitetom  kojim se post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minimalna, okom vidljiva kontrakcija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ostupak pri 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vo           F          K      zdrava    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a              G         A      bolesna   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ormalna reakcija je promptna kontra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tetanička za 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ojedinačna (klonična) za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Swiss"/>
              </a:rPr>
              <a:t>Kvantitativne promene nadra</a:t>
            </a:r>
            <a:r>
              <a:rPr b="1" lang="sr-Latn-CS" sz="4000" spc="-1" strike="noStrike">
                <a:solidFill>
                  <a:srgbClr val="dbbd71"/>
                </a:solidFill>
                <a:latin typeface="Swiss"/>
              </a:rPr>
              <a:t>ž</a:t>
            </a:r>
            <a:r>
              <a:rPr b="1" lang="en-US" sz="4000" spc="-1" strike="noStrike">
                <a:solidFill>
                  <a:srgbClr val="dbbd71"/>
                </a:solidFill>
                <a:latin typeface="Swiss"/>
              </a:rPr>
              <a:t>ljivost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Na oboleloj strani kod o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ja PMN nadra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ljivost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ista kao i sa zdrave strane ("normalna")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smanjena u odnosu na zdravu stranu ("hipoekscitabilitet")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pove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ana u odnosu na zdravu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stranu("hiperekscitabilitet"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uga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a nadra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ljivost za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F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, tzv. reakcija Duchenne de Boulgo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Swiss"/>
              </a:rPr>
              <a:t>Kvalitativne promene nadra</a:t>
            </a:r>
            <a:r>
              <a:rPr b="1" lang="sr-Latn-CS" sz="3600" spc="-1" strike="noStrike">
                <a:solidFill>
                  <a:srgbClr val="dbbd71"/>
                </a:solidFill>
                <a:latin typeface="Swiss"/>
              </a:rPr>
              <a:t>ž</a:t>
            </a:r>
            <a:r>
              <a:rPr b="1" lang="en-US" sz="3600" spc="-1" strike="noStrike">
                <a:solidFill>
                  <a:srgbClr val="dbbd71"/>
                </a:solidFill>
                <a:latin typeface="Swiss"/>
              </a:rPr>
              <a:t>ljivost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53452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Remakova kontr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Sporost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e kontrakcij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(crvuljasta, glistast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troma 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da se javi kod rashladjenja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nverzija polov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(inverzija formule) katoda/an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Formula nad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jivosti: KZ&lt;AO&lt;AZ&lt;K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od lezije: v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 intezitet kod KZ nego kod AZ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ongitudinal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Distalno pomeranje motorne t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e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azlog: obuhvatanje v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g broja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h vlakana 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Galvanoto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Tetanička kontrakcija tokom proticanja 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s"/>
              </a:rPr>
              <a:t>Kod oboljenja samih mi</a:t>
            </a:r>
            <a:r>
              <a:rPr b="1" lang="sr-Latn-CS" sz="24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1" lang="sr-Latn-CS" sz="24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1" lang="en-US" sz="2400" spc="-1" strike="noStrike">
                <a:solidFill>
                  <a:srgbClr val="ffffff"/>
                </a:solidFill>
                <a:latin typeface="Swiss"/>
              </a:rPr>
              <a:t>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to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igidnost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pri pokretima (Mb Thomsen). Pri indirektnom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reaguje normalno. Pri direktnom d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u javlja se nagla kontrakcija koja traje dugo, pop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ta postupno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ili v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sekundi posle prekida struje. Razlikuje se od Remak-ove reakcij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Hronaksija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traje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100 puta d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no normal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otor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zuzetno iz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im hipoekscitabilitetom za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i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(Mb Oppenheim). Hronaksija je nemerlj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ijaste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z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iscrpljivanjem snage voljnih pokreta, kao i kontrakcija izazivanih elektrostimulacijom (Jolly). Iscrpljenost se oporavlja posle k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g odmora, ali se javlja ponovo posle niza kontrahovanj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Pri regeneraciji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vca </a:t>
            </a:r>
            <a:r>
              <a:rPr b="1" lang="en-US" sz="2800" spc="-1" strike="noStrike">
                <a:solidFill>
                  <a:srgbClr val="a50021"/>
                </a:solidFill>
                <a:latin typeface="Swiss"/>
              </a:rPr>
              <a:t>PRVO  GALVANSKA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pa pokret,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a posle faradska nad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jivo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rednosti 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bazič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jednostavna, pristup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, jas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- prakt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u vred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ristupačna širem krugu stručnj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po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ti s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im stanj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- prognoza isklj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o na osnovu ponovljenih ED nalaz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12:06:54Z</dcterms:created>
  <dc:creator>Milan Milosevic</dc:creator>
  <dc:description/>
  <dc:language>en-US</dc:language>
  <cp:lastModifiedBy>Info</cp:lastModifiedBy>
  <dcterms:modified xsi:type="dcterms:W3CDTF">2014-07-11T15:19:05Z</dcterms:modified>
  <cp:revision>43</cp:revision>
  <dc:subject/>
  <dc:title>ELEKTRODIJAGNOSTIKA</dc:title>
</cp:coreProperties>
</file>